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E2C-F6E0-41F7-B9AD-7A957317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DF2-0442-4B9F-A9BC-7BA3C3BB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0E0-C721-49CC-9CE1-E68C573F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9EC-32E8-46AB-AB9C-7955A4E6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9D42-004A-4657-A069-6A3711CB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61B1-416A-406D-8B5B-87ADAA5B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AEE9-E218-4193-ACB6-962F9CAF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0C28-D1D3-4238-8A61-1F269280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2031-E446-4BA4-8328-C99676D0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1E2D-EEB8-449A-BC73-BEF6C02E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8C33-78BE-4C7A-886E-22380D5E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917-102A-454B-B8B6-04CA0B02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9024-D12C-4043-A818-C37F7C91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E57A-6A66-42C0-84E9-572CD211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D13C-B17D-4522-BA28-5E2502D4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2CC5-518B-42C7-8484-505DE534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D16E-47F0-4BCD-96AA-B754CD30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1A2C-2F5C-48CE-B472-214C0009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87C1-4456-4EEF-9F45-C3FC4CB1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CBCB5-7421-44C1-A385-5DA53588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F827-5330-4A9E-9D92-EE0D975D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D06D-09AA-4580-89E3-BC977080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FBE-A7A9-4D2B-94B7-6377B35C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A4E0-B1E2-4AD9-9B25-CC63476A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7851-2249-4A2B-9C9F-7228C1F9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493B-353A-4B5A-9731-421568AD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300F-C826-46B9-9524-EA76DAC5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C2CA-74EA-4863-9781-8B837177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AE935-6E95-4A61-A20D-E8730302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B2CF-44EC-4CEF-949D-AE68B436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08B37-0BAF-4B05-BBEB-F262CD87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D95E-3EFD-4276-A700-C7D2F0CF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FB13-117B-4737-98B0-DF089693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1FF-B861-4FB4-BA3A-F62730EA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C1AD-3336-41A9-8A77-C9CBC480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768B3-4F39-4D1F-BD3F-D52D4578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7A6B-F7CD-49C3-8DBD-B6E62273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6C90-B3AF-4340-B67D-74DF74A0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87B60-646A-4F87-BB97-8ED791F5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FF67-85F2-4AB2-827B-D7860E10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72B7-70B6-44EF-A7EB-4AC8B370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7E376-9266-44EB-9621-B2706176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F3AE1-BD68-431B-B94D-870A323B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3657-6EBF-417A-B841-2F3EE862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650-7F75-4933-A7C1-52ECB7FD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F6492-B583-48E9-B35A-30D11532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52E3B-3A2E-4BB1-87AF-D00BDF0B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9AC8-CA79-4437-BCEC-8372F500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253CC-4F1C-40BF-9505-C02F777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02B9C-5E3F-4C8F-87D7-D7009820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F84B8-735A-441A-9820-86E9256E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B09BD-DE11-40F1-A1B2-B6F7B03E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6E485-EB47-485B-A55D-0C5F7957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0B66A-3F8C-4313-87C4-273126CC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9481C-598B-432C-8BFF-37DB70F1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660-E404-4EB2-8D8C-EE15E75A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A945-418F-4155-A575-92582C92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9318E-41CA-4826-9C87-FA9585E1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3B0E-DA08-4707-8D4B-9414F666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CEF88-A132-4513-A465-4B80FBC8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EFDC2-1468-4D19-9C35-FB4F9C81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8502-3453-4D01-969C-A7DDC6EA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CA7E4-C1BC-4D04-99DF-1355AA35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422DD-4FCE-4705-9E37-A4010D5A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AC0F3-4E6E-462C-9AA2-24CD2CD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76001-8CCA-46FC-8F1D-63277EF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EDF-2064-4D8A-B14C-F9BEF114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D630-6623-486A-9230-4A33479C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9629F-2F3A-48DE-859F-4420D381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6D09E-AB0C-460F-A5D1-DEA395EC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A3146-DDE5-42D0-93BC-DB31776A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2323-F002-466A-8786-A37D6A28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02AC9-4F88-4722-881F-EB0E2D09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20361-014B-4A82-8125-47C9E664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26E37-053D-4BB4-A393-809D9DD6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EE4E9-6B7A-4033-9EB0-AB0E3900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2BB29-8DE7-4A05-A486-6BD51A84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E20-B90C-4AA2-A786-FFE93C6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61CCC-CE5F-4FC2-992D-962A498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D872F-BFAD-4F54-AF46-89D8C0B6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C6CA5-F799-459F-A41A-DA2AAFF8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16106-1FF6-4C5C-9ACD-740D805A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9D96D-185E-41BC-8AD4-36CCEFD8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44CFD-9747-46D2-A130-9F75A5CD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DE517-5460-42EE-B7B8-D45940D3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B0B55-525F-4B17-9292-2557660F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365B0-8B6B-4538-AE5B-854F7EB3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39F6A-FE93-4659-98C1-322EC2D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DB2-C323-487B-8FFB-BD27B3F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6FBFF-5390-42C9-9178-93ED4AB3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2C900-C456-4828-ACBA-229DDFB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626AC-F6C2-456A-942F-5860FE36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FF40A-B7A3-45EA-A16F-3A0D7418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00B05-9515-4A22-BF37-71F9A145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D1DC6-C44A-4ED4-8CD0-FE61C7A7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66185-F49D-4909-BE60-D0365713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0C46-DDE1-48E6-9A61-1F54421CF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285C-0A37-4933-9C59-4DAB6EF87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B745-8B60-495D-947E-9D3C603370B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92DE-BEA9-4A25-A531-4D03F2F2D10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4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7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3955-7CC0-4D64-82CD-99A15FCEDF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2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2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0949-B5BC-4E45-86C0-C1287C509C7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AA37-1CE0-4DD1-B017-AEDBD6A683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D3B8-E439-4DFF-B777-DB66A0C7F9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haas.html" TargetMode="External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095880" y="5257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759440" y="491328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i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11,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#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676520" y="914400"/>
            <a:ext cx="48765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z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4724280" y="3727440"/>
            <a:ext cx="2689200" cy="2689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914400" y="510552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vented 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uard Ha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52280" y="228600"/>
            <a:ext cx="87631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Black"/>
              </a:rPr>
              <a:t>Hip Hop,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/1/201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 Black"/>
                <a:hlinkClick r:id="rId3"/>
              </a:rPr>
              <a:t>www.freeplaymusic.com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Haa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263196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Haas"/>
          <p:cNvPicPr/>
          <p:nvPr/>
        </p:nvPicPr>
        <p:blipFill>
          <a:blip r:embed="rId2"/>
          <a:stretch/>
        </p:blipFill>
        <p:spPr>
          <a:xfrm>
            <a:off x="228600" y="3048120"/>
            <a:ext cx="2209680" cy="38098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657600" y="3581280"/>
            <a:ext cx="396252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melson MIT, Progra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Black"/>
              </a:rPr>
              <a:t>Pez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/16/1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 Black"/>
                <a:hlinkClick r:id="rId3"/>
              </a:rPr>
              <a:t>http://web.mit.edu/invent/iow/haa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337 -0.12694 C 0.21649 -0.11746 0.16979 -0.10798 0.14913 -0.08463 C 0.12847 -0.06128 0.16094 0.00901 0.13958 0.01248 C 0.11823 0.01595 0.04288 -0.06405 0.02049 -0.06359 C -0.00191 -0.06313 0.00816 0.00415 0.00469 0.01479 C 0.00122 0.02543 0.00018 0.00207 1.94444E-006 -5.14451E-006 E">
                                      <p:cBhvr>
                                        <p:cTn id="15" dur="2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vention: Pez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Pez was originally made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fter it came to the United States, pez became more for k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edf8"/>
                </a:solidFill>
                <a:latin typeface="Arial"/>
              </a:rPr>
              <a:t>Pez was originally mint flavo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edf8"/>
                </a:solidFill>
                <a:latin typeface="Arial"/>
              </a:rPr>
              <a:t>People in Austria would use it to help quit smo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11f5"/>
                </a:solidFill>
                <a:latin typeface="Arial"/>
              </a:rPr>
              <a:t>Pez, is short for. “pfefferminze” which is German for “peppermin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ef8"/>
                </a:solidFill>
                <a:latin typeface="Arial"/>
              </a:rPr>
              <a:t>The package had a cartoon characters head at the top of the package so it would appeal to k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10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b96a"/>
                </a:solidFill>
                <a:latin typeface="Arial Black"/>
              </a:rPr>
              <a:t>Inventor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n-US" sz="4400" spc="-1" strike="noStrike">
                <a:solidFill>
                  <a:srgbClr val="47b96a"/>
                </a:solidFill>
                <a:latin typeface="Arial Black"/>
              </a:rPr>
              <a:t> Eduard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a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1b"/>
                </a:solidFill>
                <a:latin typeface="Arial Black"/>
              </a:rPr>
              <a:t>Eduard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b34cc"/>
                </a:solidFill>
                <a:latin typeface="Arial Black"/>
              </a:rPr>
              <a:t>was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26e41c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art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f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b2fd1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ea2a16"/>
                </a:solidFill>
                <a:latin typeface="Arial Black"/>
              </a:rPr>
              <a:t>enterprising</a:t>
            </a:r>
            <a:r>
              <a:rPr b="0" lang="en-US" sz="32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29ace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3768c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d729"/>
                </a:solidFill>
                <a:latin typeface="Arial Black"/>
              </a:rPr>
              <a:t>His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9933"/>
                </a:solidFill>
                <a:latin typeface="Arial Black"/>
              </a:rPr>
              <a:t>grandpa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was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af6f0"/>
                </a:solidFill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 Black"/>
              </a:rPr>
              <a:t>doctor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who </a:t>
            </a:r>
            <a:r>
              <a:rPr b="0" lang="en-US" sz="2800" spc="-1" strike="noStrike">
                <a:solidFill>
                  <a:srgbClr val="60a06c"/>
                </a:solidFill>
                <a:latin typeface="Arial Black"/>
              </a:rPr>
              <a:t>created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af273e"/>
                </a:solidFill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a932ce"/>
                </a:solidFill>
                <a:latin typeface="Arial Black"/>
              </a:rPr>
              <a:t>new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c2673e"/>
                </a:solidFill>
                <a:latin typeface="Arial Black"/>
              </a:rPr>
              <a:t>type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b12ee"/>
                </a:solidFill>
                <a:latin typeface="Arial Black"/>
              </a:rPr>
              <a:t>of </a:t>
            </a:r>
            <a:r>
              <a:rPr b="0" lang="en-US" sz="2800" spc="-1" strike="noStrike">
                <a:solidFill>
                  <a:srgbClr val="66ccff"/>
                </a:solidFill>
                <a:latin typeface="Arial Black"/>
              </a:rPr>
              <a:t>baking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soda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ich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d7ec14"/>
                </a:solidFill>
                <a:latin typeface="Arial Black"/>
              </a:rPr>
              <a:t>helped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014a"/>
                </a:solidFill>
                <a:latin typeface="Arial Black"/>
              </a:rPr>
              <a:t>Eduard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invent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5588ab"/>
                </a:solidFill>
                <a:latin typeface="Arial Black"/>
              </a:rPr>
              <a:t>Pez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Eduard </a:t>
            </a:r>
            <a:r>
              <a:rPr b="0" lang="en-US" sz="2800" spc="-1" strike="noStrike">
                <a:solidFill>
                  <a:srgbClr val="ff8b17"/>
                </a:solidFill>
                <a:latin typeface="Arial Black"/>
              </a:rPr>
              <a:t>was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2a7cd6"/>
                </a:solidFill>
                <a:latin typeface="Arial Black"/>
              </a:rPr>
              <a:t>born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in </a:t>
            </a:r>
            <a:r>
              <a:rPr b="0" lang="en-US" sz="2800" spc="-1" strike="noStrike">
                <a:solidFill>
                  <a:srgbClr val="a5ae52"/>
                </a:solidFill>
                <a:latin typeface="Arial Black"/>
              </a:rPr>
              <a:t>Austria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is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Arial Black"/>
              </a:rPr>
              <a:t>son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8080"/>
                </a:solidFill>
                <a:latin typeface="Arial Black"/>
              </a:rPr>
              <a:t>also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7ccd33"/>
                </a:solidFill>
                <a:latin typeface="Arial Black"/>
              </a:rPr>
              <a:t>briefly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ttended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medical </a:t>
            </a: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school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99cc"/>
                </a:solidFill>
                <a:latin typeface="Arial Black"/>
              </a:rPr>
              <a:t>like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 Black"/>
              </a:rPr>
              <a:t>his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grandfather</a:t>
            </a:r>
            <a:r>
              <a:rPr b="0" lang="en-US" sz="2800" spc="-1" strike="noStrike">
                <a:solidFill>
                  <a:srgbClr val="ff01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49:48Z</dcterms:created>
  <dc:creator>install</dc:creator>
  <dc:description/>
  <dc:language>en-US</dc:language>
  <cp:lastModifiedBy>install</cp:lastModifiedBy>
  <dcterms:modified xsi:type="dcterms:W3CDTF">2011-06-01T17:35:47Z</dcterms:modified>
  <cp:revision>8</cp:revision>
  <dc:subject/>
  <dc:title>Slide 1</dc:title>
</cp:coreProperties>
</file>